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41F-369A-4A90-AF17-7FF2E4B8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02B-2ADD-4D99-B651-18F42304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5CA-E57E-4133-BF8E-1650F910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D0B-B664-4054-8912-73AA322C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AC9A-AF53-49BA-9BF2-F8E36321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377B-6EA5-4F64-B1CD-4FAD3A26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98E5-2233-4D11-A780-D91CD8C6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5C6E-0A2C-4ADC-AAED-C60F1772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EBCD-61E4-44A8-8F5C-194888FF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E2CF-A07E-4A74-B831-52CFF104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7AD4-F9EB-4060-9942-1554FF83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B20-ED15-4AC4-BA0A-2D581361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5F77-0523-4A65-B053-0B9D69BA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A1ED-01AF-4C25-94E8-DAF699BA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7686-C493-4E72-9E2F-91AEDEFC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78EA-5DB4-46AA-988D-AE1ADC49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1CFD-7861-4874-ABFE-61001E63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3224-6E63-467B-8A6D-8E0DF428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CAB0-CC6C-487F-8516-4E0D70EF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EA0-43B4-40E8-8730-1AB5C6D1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B99-32EB-4DA3-A224-BDF4935B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054-6376-49A2-B2CD-5000A8D2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048-A843-4926-9330-6C8A6E42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F76-AA91-47F5-B0BC-CA9DC742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60D2-2C6C-4A50-97AC-6D69F4AFB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4AA1-27DD-4FE0-BB86-1DE42A5122D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Pow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Separation of Power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prevent the federal government from abusing its pow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vided into three branches:  Executive, Legislative, Judi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anch possesses specific powers over the other branches, also know a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hecks and Bal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cutive Branch Pow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to make treaties (with Congress approv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to make appointments (ambassadors, federal judges, etc.) (w/Congress approv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to veto b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to grant pard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luen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gislative Branch Pow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e w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 and support armed fo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te interstate commerce and foreign tr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mit new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p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in mon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ll laws necessary for carrying out delegated powers (Necessary &amp; Proper Cla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er of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udicial Branch Pow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dge laws unconstitutional (judicial revie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 the la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Justice presides over trials of presidential impeach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difference between Delegated, Reserved and Concurrent Powe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gated = Federal (Nation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ed =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urrent = Federal +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es the separation of power among the three branches of government limit the power of eac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2:50:33Z</dcterms:created>
  <dc:creator>Robert G. Finkbeiner</dc:creator>
  <dc:description/>
  <dc:language>en-US</dc:language>
  <cp:lastModifiedBy>PA Department of Education Classrooms for the Future</cp:lastModifiedBy>
  <dcterms:modified xsi:type="dcterms:W3CDTF">2012-09-24T12:58:46Z</dcterms:modified>
  <cp:revision>2</cp:revision>
  <dc:subject/>
  <dc:title>Separation of Powers</dc:title>
</cp:coreProperties>
</file>